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A1F-7968-45F9-891A-B4CF72B3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EFE-AF05-43D9-BB53-B3D7F995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E43-C66D-48BB-91FE-955A316B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5FB-1EBA-4192-B72F-402B59E5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F4A-73DE-4E74-A9E2-B4810673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000-CBD0-497B-9AC4-80EF263D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DBE-B256-4359-AD26-5204A48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7FF-F53F-4603-A453-F6B3ACBF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3DF-8565-4DD7-A65D-BA28E604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FA2-1824-4EB2-99E7-2B9BA85D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050-2816-4F98-903D-84581D32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4BB-22DC-42E1-A2F9-0E00173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D3A2-C9D5-47F5-BD9B-8A46C446D62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i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ιαχωρισμός και ανάληψη ατομικών υποχρεώσεων για κάλυψη επιμέρους θεμάτων κάθε ομάδ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ναζήτηση γενικών πληροφορι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i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Βήμ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γκέντρωση πληροφοριώ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πεξεργασία και καταγραφή των πληροφοριών σε κείμεν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νάρτηση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ς ομάδα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o </a:t>
            </a:r>
            <a:r>
              <a:rPr b="1" i="1" lang="el-GR" sz="3200" spc="-1" strike="noStrike" u="sng">
                <a:solidFill>
                  <a:srgbClr val="000000"/>
                </a:solidFill>
                <a:uFillTx/>
                <a:latin typeface="Arial"/>
              </a:rPr>
              <a:t>Βή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Συγκέντρωση φωτογραφικού υλικού από τοπικές δημιουργίες καλλιτεχν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Λήψη συνέντευξης από καλλιτέχν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i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αγραφή αποτελεσμάτων των ερωτηματολογί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ετοιμασία για την δημιουργία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συγκέντρωση υλικών, προετοιμασία εξοπλισμού, δημιουργία σχεδίου, επιλογή του τοίχου κτ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1" i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υγκέντρωση της ομάδας στο χώρο της προεπιλογής του σχεδίο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ημιουργί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βιντεοσκόπιση της διαδικασί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04</cp:lastModifiedBy>
  <dcterms:modified xsi:type="dcterms:W3CDTF">2013-01-15T12:08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